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CB9-5B26-432E-AB39-048217AD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150-488B-409E-83F0-005A7959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29-62F2-4CF3-B57B-81DE0744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4BC-77B5-4E82-A6D9-60E32145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FA19-FCF9-4A17-9D63-1F58A97A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7F16-6D8B-4C36-B9C8-A67A1A5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DB64-4A03-402C-A58B-EC1E30DB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CA8A-DD10-4C54-BED0-8F365D67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A2F4-5103-4C3C-8923-8A849B17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FE9-062C-404B-AE56-0DD1AA3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64BD-4C39-43D7-91C3-C93217E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251-7FB9-41C2-A246-2FF3729A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6021-F4D3-4F0A-B9DE-77433E0B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BB0A-4E09-44D4-A35F-0E3655B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196D-4B27-483E-9A4F-6E0592C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09F4-F32E-49F7-8267-4BAE1F5F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1731-48A8-47DA-99B0-783A3D8D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E21-AE94-4C68-9233-1B39305C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2FE-0FD2-4FF7-8212-C58015A4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CE5-DBA1-426F-965E-AABB9593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6E4-4542-4D2E-AED9-62BD713A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2B8-DF94-4B05-B424-CC8FA25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EB2-0AC1-4A1D-B4F0-974F44F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FCF-C212-4951-9861-E107989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F1E-C079-4D58-BFD3-CDE5E404D82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D3DA-F0F0-4232-BBEE-2BFD622B7895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ategory/6-8/iSquad Session 2 of 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File Mgmt for MAC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2520" y="1752480"/>
            <a:ext cx="144756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001000" y="3352680"/>
            <a:ext cx="99072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3120" y="1889280"/>
            <a:ext cx="6400800" cy="3200400"/>
          </a:xfrm>
          <a:prstGeom prst="ellipse">
            <a:avLst/>
          </a:prstGeom>
          <a:noFill/>
          <a:ln w="57240">
            <a:solidFill>
              <a:srgbClr val="f53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uble-click on the name of the folder or application you would like to se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1523880" y="3838680"/>
            <a:ext cx="685800" cy="12384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we click on a file name, we can see where the file is located on the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6428880" y="504828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029200"/>
            <a:ext cx="190512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pen the Finder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ype “Smart” in the Spotlight search area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the computer find?  Where were the files located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practice searching for files and folders on our comput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actice searching for documents on your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the folders we created in our last sess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tice where they are locat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find files and applications on our compute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search and find files and applications on our comput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notice when you were search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35064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we help teachers and students to find files, folders and applications   on their computer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e last session, we learned how to create folders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will learn how to find files and applications on our comput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hy would we need to search for files and applications?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asons to Search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rgot what a document is name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pplication icon is not in the “dock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n’t remember what folder the file is saved i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e Finder window, there is a search tool called “Spotlight”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9880" y="974880"/>
            <a:ext cx="152424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Spotligh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ype key word, name of the application or folder you would like to fin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potlight will list everything it finds in the computer that contains the words you have typ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2-28T02:13:56Z</dcterms:modified>
  <cp:revision>9</cp:revision>
  <dc:subject/>
  <dc:title>Workshop Title</dc:title>
</cp:coreProperties>
</file>